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9E9-7174-4E74-A8AB-A1996CD4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4FF-FDF7-47B9-AACD-3D2BC143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5C4-102E-4D7C-8C52-585C8D74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C557-9373-4065-B691-AE6B0256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AF7-9AEC-45EF-BFAD-0FE6752F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6EE-EFA8-4097-B048-8CE5D9A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76E6-686D-4BE8-B814-9653E997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FA3-ABC1-4C28-9F6B-E9CD7BB6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701-B9E4-45F7-9404-1A5AE962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116-8F3D-4D60-9990-D2B0933D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A1E-EE05-474E-B898-7DBB815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42F-E644-438D-A9A4-21186372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1B94-2D1E-4FDD-A544-0A0408CC1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8000" y="115920"/>
            <a:ext cx="8928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8000" y="6742080"/>
            <a:ext cx="8928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720" y="645336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© Andreas B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s-help://MS.VSCC.v80/MS.MSDN.v80/MS.NETDEVFX.v20.en/cpref11/html/N_System_Runtime_InteropServices.htm" TargetMode="External"/><Relationship Id="rId2" Type="http://schemas.openxmlformats.org/officeDocument/2006/relationships/hyperlink" Target="ms-help://MS.VSCC.v80/MS.MSDN.v80/MS.NETDEVFX.v20.en/cpref11/html/T_System_Runtime_InteropServices_Marshal.htm" TargetMode="External"/><Relationship Id="rId3" Type="http://schemas.openxmlformats.org/officeDocument/2006/relationships/hyperlink" Target="ms-help://MS.VSCC.v80/MS.MSDN.v80/MS.NETDEVFX.v20.en/cpref11/html/T_System_Runtime_InteropServices_Marshal.htm" TargetMode="External"/><Relationship Id="rId4" Type="http://schemas.openxmlformats.org/officeDocument/2006/relationships/hyperlink" Target="ms-help://MS.VSCC.v80/MS.MSDN.v80/MS.NETDEVFX.v20.en/cpref11/html/T_System_Runtime_InteropServices_Marshal.htm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w1sc4t4k(vs.71).aspx" TargetMode="External"/><Relationship Id="rId2" Type="http://schemas.openxmlformats.org/officeDocument/2006/relationships/hyperlink" Target="http://support.microsoft.com/default.aspx?scid=kb%3Ben-us%3B309801" TargetMode="External"/><Relationship Id="rId3" Type="http://schemas.openxmlformats.org/officeDocument/2006/relationships/hyperlink" Target="http://support.microsoft.com/default.aspx?scid=kb%3Ben-us%3B309801" TargetMode="External"/><Relationship Id="rId4" Type="http://schemas.openxmlformats.org/officeDocument/2006/relationships/hyperlink" Target="http://support.microsoft.com/default.aspx?scid=kb%3Ben-us%3B309801" TargetMode="External"/><Relationship Id="rId5" Type="http://schemas.openxmlformats.org/officeDocument/2006/relationships/hyperlink" Target="http://msdn2.microsoft.com/en-us/library/0wf2yk2k(VS.80).aspx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 call out of a legacy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32000" y="2133360"/>
            <a:ext cx="6400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ederverwendung von Legacy Visual Studio 6.0 C++ Code über einen Callback Mechanismus aus .NET hera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dreas Brä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raesen@bruke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. Speaker 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8-July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Umse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5440" y="3357720"/>
            <a:ext cx="17287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++/CLI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onv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3440" y="3357720"/>
            <a:ext cx="15127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 2005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++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6160" y="2565360"/>
            <a:ext cx="360720" cy="289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6" idx="3"/>
            <a:endCxn id="115" idx="0"/>
          </p:cNvCxnSpPr>
          <p:nvPr/>
        </p:nvCxnSpPr>
        <p:spPr>
          <a:xfrm rot="5400000">
            <a:off x="6986520" y="2637720"/>
            <a:ext cx="504000" cy="93744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18" name=""/>
          <p:cNvGrpSpPr/>
          <p:nvPr/>
        </p:nvGrpSpPr>
        <p:grpSpPr>
          <a:xfrm>
            <a:off x="6805080" y="1483920"/>
            <a:ext cx="1873440" cy="1081440"/>
            <a:chOff x="6805080" y="1483920"/>
            <a:chExt cx="1873440" cy="1081440"/>
          </a:xfrm>
        </p:grpSpPr>
        <p:sp>
          <p:nvSpPr>
            <p:cNvPr id="119" name=""/>
            <p:cNvSpPr/>
            <p:nvPr/>
          </p:nvSpPr>
          <p:spPr>
            <a:xfrm rot="10800000">
              <a:off x="6805080" y="1483920"/>
              <a:ext cx="1873080" cy="108108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05440" y="1484280"/>
              <a:ext cx="1873080" cy="108108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05440" y="1484280"/>
              <a:ext cx="1873080" cy="10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&lt;abstract&gt;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VS 6.0 C++/ 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VS2005 C++/C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Kla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>
            <a:off x="529272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3357720"/>
            <a:ext cx="17287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4328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352600" y="248256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108760" y="3039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5229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xed Mode C++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522936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#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Adapter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apping der nativen Callbacks auf .NET C++/CLI Deleg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oadStringDelegate^ loadStringMixedModeDelegat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oadStringMixedModeDelegate =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cnew LoadStringMixedModeDelegat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this,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&amp;LegacyCodeAdapter::LoadStringConvert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CHandle gcHandleLoadStringUnmanagedDelegat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cHandleLoad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UnmanagedDelegate =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CHandle::Alloc( loadStringMixedModeDelegate 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Ptr intPtrLoadStringUnmanagedDelegat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PtrLoadStringUnmanagedDelegate =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arshal::GetFunctionPointerForDelegat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oadStringMixedModeDelegat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Adapter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pLegacyCodeCallbackContainer-&gt;LoadStringUnmanagedCallback =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static_cast&lt;LegacyCodeCallbacks::LoadStringUnmanagedCallback&g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PtrLoadStringUnmanagedDelegate.ToPointer()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egacyCode legacyCod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PTSTR legacyCodeReturnString;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egacyCodeReturnString =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egacyCode.StartLegacyCode( pLegacyCodeCallbackContainer );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returnValue = gcnew String( legacyCodeReturnString ); 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delete legacyCodeReturnString; 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egacyCodeReturnString = nullpt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fGcHandleAllocatedFreeThem( gcHandleLoadUnmanagedDelegate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 Adapter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LPTSTR LegacyCodeAdapter::LoadStringOutOfResourceConverter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long resourceId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nt&amp; resourceExistsReturnValue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String^ callbackReturnValue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callbackReturnValue = 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m_ManagedDelegateContainer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 -&gt;LoadStringOutManagedDelegat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resourceId,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resourceExistsReturnValu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LPTSTR returnValue;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if( resourceExistsReturnValue != 0 )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{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returnValue =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LPTSTR)Marshal::StringToCoTaskMemAnsi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(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callbackReturnValue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).ToPointer();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}</a:t>
            </a:r>
            <a:br>
              <a:rPr sz="1400"/>
            </a:b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return( returnValue ); </a:t>
            </a:r>
            <a:br>
              <a:rPr sz="1400"/>
            </a:b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üm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 der Mixed Mode Technologie, PInvoke und dem IJW (It just works) ist es nach einiger Eingewöhnung, einigen Umbauten  des Legacy Codes ein sehr mächtiges Mittel um Legacy C++ Code aus .NET heraus wieder zu verwen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gacy Migration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Die kürzeste Verbindung zwischen zwei Fettnäpfch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“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stem.Runtime.InteropServi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C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shal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GetFunctionPointerForDele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StringToCoTaskMemA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ing Changes in ATL 7.0 and MFC 7.0 Since Visual C++ 6.0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sdn2.microsoft.com/en-us/library/w1sc4t4k(vs.71).asp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receive an LNK2019 error message when you build a Visual C++ 2005 or Visual C++ .NET application that uses a CString-derived class from a DLL fi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upport.microsoft.com/default.aspx?scid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=kb%3Ben-us%3B30980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NET Framework Equivalents to C++ Native Typ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sdn2.microsoft.com/en-us/library/0wf2yk2k(VS.80).aspx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eb Casts/Bü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Cast‘s von Bernd Marquard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ttp://www.microsoft.com/germany/msdn/webcasts/finder/default.asm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 Visual C++/CLI and the .NET 2.0 Platfor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s 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BN: 1-59059-640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te C++ Bücher, die einem verwöhnten C# Programmierer wieder Erfurcht oder doch eher das Fürchten lehren. ;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-Implementation kann unter www.bruke.de herunter geladen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urzbi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reas Brä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braesen@bruke.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pl. Ing. der technischen Informatik (F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reiberuflicher Software Entwickler mit Schwerpunkt auf .NET basierter Software Entwick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einem Projekt 2006/2007 die gezeigten Mechanismen erfolgreich umgeset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ww.bruke.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409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Teile einer bestehenden Visual Studio 6.0 C++ Applikation sollten weiter benutzt werden aus dem .NET Nachfolgeprodukt herau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Die bestehende Visual Studio 6.0 C++ Applikation wird kontinuierlich weiterentwickel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Keine zwei Code Stream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Code ist für ASCII String ausgelegt – Keine Unicode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050920" y="1216080"/>
            <a:ext cx="5042160" cy="4660920"/>
            <a:chOff x="2050920" y="1216080"/>
            <a:chExt cx="5042160" cy="4660920"/>
          </a:xfrm>
        </p:grpSpPr>
        <p:sp>
          <p:nvSpPr>
            <p:cNvPr id="49" name=""/>
            <p:cNvSpPr/>
            <p:nvPr/>
          </p:nvSpPr>
          <p:spPr>
            <a:xfrm>
              <a:off x="2050920" y="1268280"/>
              <a:ext cx="5042160" cy="460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93000" y="1216080"/>
              <a:ext cx="24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ual Studio 6.0 C++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Ausgangs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4581360"/>
            <a:ext cx="4897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5800" y="2924280"/>
            <a:ext cx="172692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1628640"/>
            <a:ext cx="2665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680" y="2808360"/>
            <a:ext cx="1584360" cy="1224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er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3440" y="1268280"/>
            <a:ext cx="12222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 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2924280"/>
            <a:ext cx="26654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3284640"/>
            <a:ext cx="433440" cy="287280"/>
          </a:xfrm>
          <a:prstGeom prst="lef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2421000"/>
            <a:ext cx="288720" cy="431640"/>
          </a:xfrm>
          <a:prstGeom prst="upDownArrow">
            <a:avLst>
              <a:gd name="adj1" fmla="val 50000"/>
              <a:gd name="adj2" fmla="val 29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73600" y="3284640"/>
            <a:ext cx="431640" cy="288720"/>
          </a:xfrm>
          <a:prstGeom prst="leftArrow">
            <a:avLst>
              <a:gd name="adj1" fmla="val 50000"/>
              <a:gd name="adj2" fmla="val 37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3280" y="407664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407664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Randbedingungen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Kein Flaches API möglich, da komplexe Klassenstruktur -&gt; PInvoke nicht anwendb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String wurde oft als Argument benutzt, was die einfach Einbindung von MFC 4.2 Code erschwerte im Kontext von MFC 7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FC 4.2 durfte nicht benutzt werd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o wenig wie möglich Bestandteile aus der alten Applikation in die Neue mit herüber nehm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Randbedingungen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eine Registry Zugriffe meh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Legacy Logging Funktionalität konnte nicht mehr benutzt wer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alten Resource DLL‘s sollten aber aus der neuen Applikation heraus wiederbenutzt werden, um mehrfaches Übersetzen zu verhind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e Hardware Informationen aus der Neuen Applikation, sehen komplett anders aus als in der Legacy Applikation, auch vom Modell 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050920" y="1216080"/>
            <a:ext cx="5042160" cy="4660920"/>
            <a:chOff x="2050920" y="1216080"/>
            <a:chExt cx="5042160" cy="4660920"/>
          </a:xfrm>
        </p:grpSpPr>
        <p:sp>
          <p:nvSpPr>
            <p:cNvPr id="68" name=""/>
            <p:cNvSpPr/>
            <p:nvPr/>
          </p:nvSpPr>
          <p:spPr>
            <a:xfrm>
              <a:off x="2050920" y="1268280"/>
              <a:ext cx="5042160" cy="460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93000" y="1216080"/>
              <a:ext cx="24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ual Studio 6.0 C++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Lö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24000" y="4581360"/>
            <a:ext cx="48974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628640"/>
            <a:ext cx="2665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D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5680" y="2808360"/>
            <a:ext cx="1584360" cy="1224000"/>
          </a:xfrm>
          <a:prstGeom prst="vertic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er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3440" y="1268280"/>
            <a:ext cx="122220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 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2924280"/>
            <a:ext cx="26654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3284640"/>
            <a:ext cx="433440" cy="287280"/>
          </a:xfrm>
          <a:prstGeom prst="leftArrow">
            <a:avLst>
              <a:gd name="adj1" fmla="val 50000"/>
              <a:gd name="adj2" fmla="val 3771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2421000"/>
            <a:ext cx="288720" cy="431640"/>
          </a:xfrm>
          <a:prstGeom prst="upDownArrow">
            <a:avLst>
              <a:gd name="adj1" fmla="val 50000"/>
              <a:gd name="adj2" fmla="val 29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08720" y="407664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050920" y="1268280"/>
            <a:ext cx="2089440" cy="3024360"/>
            <a:chOff x="2050920" y="1268280"/>
            <a:chExt cx="2089440" cy="3024360"/>
          </a:xfrm>
        </p:grpSpPr>
        <p:sp>
          <p:nvSpPr>
            <p:cNvPr id="80" name=""/>
            <p:cNvSpPr/>
            <p:nvPr/>
          </p:nvSpPr>
          <p:spPr>
            <a:xfrm>
              <a:off x="2050920" y="1268280"/>
              <a:ext cx="2089440" cy="3024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15360" y="1336320"/>
              <a:ext cx="1895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ual Studio 2005 C++/CLI – Mixed/M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125800" y="2924280"/>
            <a:ext cx="17269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73600" y="3284640"/>
            <a:ext cx="431640" cy="288720"/>
          </a:xfrm>
          <a:prstGeom prst="leftArrow">
            <a:avLst>
              <a:gd name="adj1" fmla="val 50000"/>
              <a:gd name="adj2" fmla="val 37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3280" y="4076640"/>
            <a:ext cx="288720" cy="432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268280"/>
            <a:ext cx="1366920" cy="136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FC 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124000" y="2924280"/>
            <a:ext cx="1728720" cy="1079280"/>
            <a:chOff x="2124000" y="2924280"/>
            <a:chExt cx="1728720" cy="1079280"/>
          </a:xfrm>
        </p:grpSpPr>
        <p:sp>
          <p:nvSpPr>
            <p:cNvPr id="87" name=""/>
            <p:cNvSpPr/>
            <p:nvPr/>
          </p:nvSpPr>
          <p:spPr>
            <a:xfrm>
              <a:off x="2124000" y="2924280"/>
              <a:ext cx="1728720" cy="107928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2124000" y="2924280"/>
              <a:ext cx="1728720" cy="107928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24000" y="2924280"/>
              <a:ext cx="1726920" cy="107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nerieru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708360" y="2997360"/>
            <a:ext cx="792360" cy="79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4440" y="3889440"/>
            <a:ext cx="792000" cy="79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6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musste im Vorfeld gemacht werde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nführung von abstrakte Klassen im Legacy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2492280"/>
            <a:ext cx="18734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 6.0 C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4365720"/>
            <a:ext cx="151272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S 2005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++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4365720"/>
            <a:ext cx="151272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 6.0 C++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56000" y="3573360"/>
            <a:ext cx="360360" cy="289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7" idx="3"/>
            <a:endCxn id="95" idx="0"/>
          </p:cNvCxnSpPr>
          <p:nvPr/>
        </p:nvCxnSpPr>
        <p:spPr>
          <a:xfrm rot="5400000">
            <a:off x="3816360" y="3645720"/>
            <a:ext cx="504000" cy="93744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7" idx="3"/>
            <a:endCxn id="96" idx="0"/>
          </p:cNvCxnSpPr>
          <p:nvPr/>
        </p:nvCxnSpPr>
        <p:spPr>
          <a:xfrm flipH="1" rot="16200000">
            <a:off x="4789440" y="3609720"/>
            <a:ext cx="504000" cy="1008720"/>
          </a:xfrm>
          <a:prstGeom prst="bentConnector3">
            <a:avLst>
              <a:gd name="adj1" fmla="val 4982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6804000" y="4365720"/>
            <a:ext cx="1584360" cy="107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andtei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Legac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634920" y="2491920"/>
            <a:ext cx="1873440" cy="1081440"/>
            <a:chOff x="3634920" y="2491920"/>
            <a:chExt cx="1873440" cy="1081440"/>
          </a:xfrm>
        </p:grpSpPr>
        <p:sp>
          <p:nvSpPr>
            <p:cNvPr id="103" name=""/>
            <p:cNvSpPr/>
            <p:nvPr/>
          </p:nvSpPr>
          <p:spPr>
            <a:xfrm rot="10800000">
              <a:off x="3634920" y="2491920"/>
              <a:ext cx="1873080" cy="1081080"/>
            </a:xfrm>
            <a:prstGeom prst="rtTriangl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5280" y="2492280"/>
              <a:ext cx="1873080" cy="108108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35280" y="2492280"/>
              <a:ext cx="1873080" cy="10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&lt;abstract&gt;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VS 6.0 C++/ </a:t>
              </a:r>
              <a:br>
                <a:rPr sz="1800"/>
              </a:b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VS2005 C++/C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Arial"/>
                </a:rPr>
                <a:t>Kla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826920" y="4365720"/>
            <a:ext cx="1511640" cy="1079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a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NET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34000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525320" y="35143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back\Dele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nige Probleme bei der Umstellung des Legacy C++ Codes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de Anpassungen, damit der Visual Studio 6 Code mit dem C++ Compiler von Visual Studio 2005 compiliert werden konnte, weil das VS2005 restriktiver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 Kontext der STL (Standard Template Library) mußten ein paar Anpassungen gemacht werden. z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ifdef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ew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define _ENDL std::en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define _ENDL en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nige Probleme bei der Umstellung des Legacy C++ Codes 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ifdef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ewApplication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std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::ofstream OutputFile(T2A (m_tszAnalyseFil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ifdef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ewApplication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define MAXEX _cpp_max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lse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define MAXEX std::_MAX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ifdef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NewApplication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std::vector &lt;class T&gt;::iterator begin()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lse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std::vector &lt;T&gt;::iterator begin()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03:50:15Z</dcterms:created>
  <dc:creator>Bruder</dc:creator>
  <dc:description/>
  <dc:language>en-US</dc:language>
  <cp:lastModifiedBy>Bruder</cp:lastModifiedBy>
  <dcterms:modified xsi:type="dcterms:W3CDTF">2007-07-18T20:40:32Z</dcterms:modified>
  <cp:revision>31</cp:revision>
  <dc:subject/>
  <dc:title>Folie 1</dc:title>
</cp:coreProperties>
</file>